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A3B-02C2-4937-B5E3-E89DD0EB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678-F2F9-4E71-902E-4FE15A22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B5C-0789-4426-A592-E804A2A9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F67-F3E5-44E0-AE1A-F495B5C5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5D52-3C83-4962-B62B-8330507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814C-74FD-40C0-B8A8-C3EDAE3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A2CC-FD1F-44AB-9996-7F0E3B33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74B-55A8-433E-9509-7895417A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0AA6-4376-4DF1-85B3-51ACAD53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58D-7814-44E0-ABD2-9172EB2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07C-A84C-4B57-8930-F8F127F5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588-AF15-4828-846B-288626A4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130-EB23-4EAC-834E-110A125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A6DF-3C00-4851-B56A-EE57727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EFCD-2FB5-4E9F-AC81-310E0DF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E072-2AD1-400A-96C3-3E36263D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F1A-F409-4F8A-876A-00B33028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2AB-8EF0-4BC5-A902-B280544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8C2-8CB7-407E-9B98-ED196886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D61-EDB4-41DD-BAC6-41BD144B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4CB-B318-4927-A768-C8C814C6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379-9D69-4F14-B31D-72B8245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800-EE27-4BB1-9BFC-D5DFEAA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D8D-77FC-44DC-BB45-09ED91D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26F5-EED5-4E73-814E-7029EE47A1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233-1447-41A8-A4B8-237091DEA4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«Черный»</a:t>
            </a:r>
            <a:r>
              <a:rPr b="1" lang="en-US" sz="4600" spc="-1" strike="noStrike">
                <a:solidFill>
                  <a:srgbClr val="006633"/>
                </a:solidFill>
                <a:latin typeface="Tahoma"/>
                <a:ea typeface="Tahoma"/>
              </a:rPr>
              <a:t> PR</a:t>
            </a:r>
            <a:r>
              <a:rPr b="1" lang="ru-RU" sz="4600" spc="-1" strike="noStrike">
                <a:solidFill>
                  <a:srgbClr val="006633"/>
                </a:solidFill>
                <a:latin typeface="Tahoma"/>
                <a:ea typeface="Tahoma"/>
              </a:rPr>
              <a:t>: </a:t>
            </a: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понятие, технологии, примеры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е 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ый PR - это целенаправленная деятельность, имеющая целью разрушение или ухудшение имиджа конкретного лица или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 "черный PR" возник в начале 90-х годов и обозначал распространение информации политического или коммерческого характера, оплата за которое производилась неофициально (в теневой форм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ет заведомо ложную информацию, а если она правдива, то добыта, как правило, нечестным путем (подкуп, шпионаж и проче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ривести к полному уничтожению организации или разрушению репутации человека (проще начать работу над чем-то новым, чем попытаться "отмыться" от черного пиара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age-6"/>
          <p:cNvPicPr/>
          <p:nvPr/>
        </p:nvPicPr>
        <p:blipFill>
          <a:blip r:embed="rId1"/>
          <a:stretch/>
        </p:blipFill>
        <p:spPr>
          <a:xfrm>
            <a:off x="1143000" y="404640"/>
            <a:ext cx="73897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черного 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, представляемая на всеобщее обозрение, часто не соответствует морально-этическим нормам, принятым в обществ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ю черн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е является улучшение собственной репутации,  речь идет о "потоплении" конкур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бликация компрометирующей информации в СМИ происходит плат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, как правило, содержит какую-то новую завуалированную идею, которую нужно навязать аудитор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случаях, может быть полезен для объекта, на который он направлен (повышается узнаваемость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рометирующая информация практически всегда распространяется анонимн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че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мпании требует значительных материальных вло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age-4"/>
          <p:cNvPicPr/>
          <p:nvPr/>
        </p:nvPicPr>
        <p:blipFill>
          <a:blip r:embed="rId1"/>
          <a:stretch/>
        </p:blipFill>
        <p:spPr>
          <a:xfrm>
            <a:off x="684360" y="549360"/>
            <a:ext cx="7362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PR-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онечных целей и детализация их на конкретные задачи (то, чего вы хотите добиться в итог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целевой аудитории (в каких кругах будет распространяться информац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нахождение и контакты (где и как вы можете связаться с представителями целевой аудитории, чтобы донести до них нужные свед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схемы работы со СМИ (анализ методов донесения сведений до целевой аудитории, выбор приоритетных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нформационной составляющей (каким должно быть сообщение, чтобы вызвать резонанс в обществ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событий, в ходе которых будет распространена компрометирующая информац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ogo-1"/>
          <p:cNvPicPr/>
          <p:nvPr/>
        </p:nvPicPr>
        <p:blipFill>
          <a:blip r:embed="rId1"/>
          <a:stretch/>
        </p:blipFill>
        <p:spPr>
          <a:xfrm>
            <a:off x="2355840" y="2158920"/>
            <a:ext cx="4432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мпании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нирование побочных событий, которые будут спровоцированы для увеличения резонанс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средственное создание событий, распространение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руктура  черной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кампании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корректирующих мероприят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ершение про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PR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мпрома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Цель - вызвать сомнения в компетентности конкурента путем запуска какой-то информации и донесения ее до широкой аудитор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обвинения должны быть восприняты публикой, как достоверные. Чаще всего требуется искусственное создание какого-то резонансного события, которое широко тиражируется через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Технологии черного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Плохая похвал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ужно публично похвалить противника таким образом, чтобы на аудиторию информация возымела обратный эфф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ирование успехов, чрезмерное употребление хвалебных эпите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этом информация не подтверждается какими-либо фактами. Таким образом, происходит ухудшение имид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ейсы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плохая похвал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мероприятие, организованное главой района, конкуренты пригласили бизнесмена, который должен был выступить с хвалебной речью. В конце праздника человек начал рассказывать аудитории об успехах местного руководителя, о том, что ему удалось сделать и построить, что вызвало одобрение аудитории. Позже оратор в таких же позитивных тонах начал рассказывать о капитальном строительстве, которое планируется вести, что вызвало у слушателей негативные эмоции, ведь их уютные дворы превратятся в колодцы. Так в результате использования метода "плохой похвалы" глава района утратил доверие гражда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войная аудитория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ачала нужно оказать влияние на одну группу лиц, которые распространят свою негативную реакцию на другие сегмен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, чтобы добиться реакции властей, разрабатывается PR-кампания, направленная на вызов недовольств среди населения. На это реагируют СМИ. Тогда, у органов власти не остается другого выхода, как отреаг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ойная аудитор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 Public Relations по принципу двойной аудитории: скажем, руководители компании, которую требуется дискредитировать, были замечены в высказывании националистских ид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ои убеждения они высказывали только в частных беседах. Но информация была донесена до общественных организаций и национальных общин. Их негодование вызвало интерес СМИ. Как результат, компания разорилас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"Крючок и наживка"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ъекта, который нужно скомпрометировать, искусственно создается ситуация, в которую он должен попасть. Дальше все развивается так, что он сам портит свою репутац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ичный пример использования метода "крючка и наживки"- это уже реальная ситуация с американским президентом Биллом Клинто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го познакомили с Моникой Левински, после чего завязался роман. Позже он был обвинен в сексуальных домогательствах, а внебрачная связь с Левински послужила аргументом против нег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щественное возмущение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- это поиск объекта или ситуации, на которую общественность отреагирует возмущение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средств массовой информации состояние недовольства нужно подогревать как можно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Разноцветный 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ел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выстраивание тесных связей межу субъектом и общественностью с целью формирования положительного отношения к его личности или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дминистративный ресурс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мощи неправдивой информации органы местной или государственной власти настраиваются против определенной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ходе проверок, проводимых этими структурами, обнаруживаются многочисленные нарушения, что нередко приводит к уничтожению предприя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834920" y="1773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ей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элитный ночной клуб проникают два молодых человека презентабельного внешнего вида. Будучи уже в помещении, они переодеваются в бродяг, начинают дебоширить, донимать гостей и драться с охраной. Результат - репутация клуба разрушена, он теряет кли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ководитель условной сети супермаркетов захотел устранить крупного конкурента. Для этого была нанята большая группа людей для создания искусственных очередей на кассах. При этом у каждого участника данной "акции" достаточно большое количество товаров. У остальных покупателей создается негативный образ магазина. Боясь больших очередей, они начинают обходить его сторон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Способы противодействия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черному P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езорганизация атак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Если у вас есть информация о том, что на вас готовится компромат, вы должны сами себя очернить, используя СМИ и прочие средства распространения информации. Обвинения должны быть весомыми и грубыми. Но через короткое время выходит опровержение с железобетонными доказательствами. Таким образом, к любым новым обвинениям у публики выработается иммунит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 вспыш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а фоне информационной атаки со стороны конкурентов должно быть искусственно создано событие, которое по своей значимости перекроет компрометирующий материал. Важно, чтобы этот процесс протекал в другой информационной плоскости и имел позитивный оттен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онтрата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ответ на информационную атаку, вы организуете свою войну с источником негативных и неправдивых сведений о в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силение белого пиа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Не обращая внимания на компромат, нужно как можно теснее работать со своей аудиторией, демонстрируя только положительные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иемы черного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 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в политике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являющийся полным тезкой или однофамильцем политика, организует благотворительную акцию, в ходе которой происходит раздача продуктовых наборов или других товаров. Естественно, они будут некачественными, что вызовет негодование у электора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мещение компрометирующего фото- и видеоматериала. Чаще всего скрытая съемка проводится в неформальной обстановке, где политик позволяет себе некоторые вольности, но и смонтированные материалы активно идут в х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негативного образа за счет неблагонадежной аудитории. Так, например, профашистские организации или представители ЛГБТ-сообщества могут быть наняты для того, чтобы проводить агитацию за конкур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ер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ная противоположность белог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 на то, чтобы сформировать негативный образ конкурента в глазах обществен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вление родственников. Это могут быть незаконнорожденные дети, братья или сестры, которые влачат жалкое нищенское существование. Как правило, это наемные люди, которые активно выступают на телевидении и в ходе митин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законная реклама. Подразумевается проведение агитации за конкурента в так называемые "дни тишины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ндализм и порча имущества. Имеется в виду расклейка листовок конкурента на памятниках архитектуры, дверях и окнах жилых зданий, окнах автомобилей. С целью добиться большей озлобленности аудитории может применяться несмываемый клей или едкая кра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азные статьи. В печатных СМИ местного значения размещаются заметки о коррупционных связях кандидата на избирательную долж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йный агент. В СМИ неугодный кандидат может быть уличен в связях с иностранными спецслужб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монстрация роскоши. Основная цель - предать гласности как можно больше дорогих покупок оппонента, учебу детей за границей, громкие празднования, в которых политик принимал участ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политике используются "образ врага", который подразумевает следующе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врага не приходится ожидать ничего хорошего, а потому нельзя доверять ему и оказывать поддержк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я вина за происходящие негативные процессы возлагается на политического оппонен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х врага приравнивается к автоматическому наступлению благосостояния на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бы трудности не постигли "плохого" политика, к нему нельзя испытывать сострада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оратники врага автоматически наделяются таким же статус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струменты черного </a:t>
            </a: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в интерне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умы, блоги, социальные се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подобных ресурсах активно создаются фейковые аккаунты, с которых распространяется компрометирующая информация. "Тролли" принимают активное участие в обсуждении, приводя весомые и убедительные аргум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зывы. Если раньше человек спрашивал мнение о качестве товаров или услуг о своих знакомых, сейчас он, первым делом, ищет подобную информацию в интернете. Поэтому достаточно часто в борьбе с конкурентами используются фейковые негативные отклики о работе той или иной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ы для размещения компромата. В сети есть огромное количество ресурсов, которые специализируются на черном пиаре. На них собрано множество порочащих сведений об известных лицах и организац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йты-клоны. Призваны ввести в заблуждение пользователей. Ресурс представляет собой практически полную копию реального сайта организации, за исключением контента. Страница наполняется текстами с нецензурной лексикой, а также медийными материалами экстремистского или иного оскорбительного содерж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-black-pr-228x331"/>
          <p:cNvPicPr/>
          <p:nvPr/>
        </p:nvPicPr>
        <p:blipFill>
          <a:blip r:embed="rId1"/>
          <a:stretch/>
        </p:blipFill>
        <p:spPr>
          <a:xfrm>
            <a:off x="1979640" y="260280"/>
            <a:ext cx="496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ер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положительный или отрицательны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 котором используются данные из скрытых источников. Часто подразумевает воздействие на подсознание аудито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бороться с черным </a:t>
            </a:r>
            <a:r>
              <a:rPr b="1" lang="en-US" sz="3800" spc="-1" strike="noStrike">
                <a:solidFill>
                  <a:srgbClr val="006633"/>
                </a:solidFill>
                <a:latin typeface="Arial"/>
              </a:rPr>
              <a:t>PR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нтернет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 и удаление негативных комментариев и отзывов с разных ресур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яжело, привлечь к данному процессу большое количество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ространение положительных сведений о своей организации. Для эффективной работы в этом направлении придется использовать инструменты SEO и SM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ся в виду оптимизация ресурсов с положительной информацией, чтобы они стали более доступными для пользовате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ая рассылка. Правильно составленный пресс-релиз позволит укрепить позиции организации на фоне негативной информационной ата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упка страниц с хорошей посещаемостью и репутацией с целью размещения информации о компании и ссылок на ее ресур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ивизация белог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ети, чтобы затмить тот негатив, который исходит от конкур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ся PR-проект, реализация которого создаст положительный образ компании в сети, который будет трудно пошатнуть любыми информационными вброс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black-290x275"/>
          <p:cNvPicPr/>
          <p:nvPr/>
        </p:nvPicPr>
        <p:blipFill>
          <a:blip r:embed="rId1"/>
          <a:stretch/>
        </p:blipFill>
        <p:spPr>
          <a:xfrm>
            <a:off x="2340000" y="1484280"/>
            <a:ext cx="41180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елт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кандальные оскорбительные сведения, которые привлекают внимание общественности и вызывают бурные диску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оз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основан на легендах и мифах, которые удовлетворяют потребность аудитории в иллюзия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сходит выработка социального оптимизма и ощущения грядущего благополуч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еле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демонстрируется социальная ответственность и забота об окружающей сре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- создание имиджа организации на основе ценовой поли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828x620"/>
          <p:cNvPicPr/>
          <p:nvPr/>
        </p:nvPicPr>
        <p:blipFill>
          <a:blip r:embed="rId1"/>
          <a:stretch/>
        </p:blipFill>
        <p:spPr>
          <a:xfrm>
            <a:off x="1619280" y="1779480"/>
            <a:ext cx="5905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21:04:59Z</dcterms:created>
  <dc:creator>admin</dc:creator>
  <dc:description/>
  <dc:language>en-US</dc:language>
  <cp:lastModifiedBy>Дружба Ольга Владимировна</cp:lastModifiedBy>
  <dcterms:modified xsi:type="dcterms:W3CDTF">2022-03-16T09:07:52Z</dcterms:modified>
  <cp:revision>7</cp:revision>
  <dc:subject/>
  <dc:title>«Черный» PR: понятие, технологии, примеры</dc:title>
</cp:coreProperties>
</file>